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FFF-F7B8-40FB-9004-2509D3F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12B-8756-4EB7-ABD4-771CFE94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EB9-798E-46B8-8527-9DEBE533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184-9086-403C-8C34-D4C381E8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0F8-1227-4303-90B9-7B0F1CA4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E03-D1C2-4132-A21B-3D2E247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134-1E4D-45B7-ADBD-AE139FA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723-9119-4EE6-81BE-17085F2F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506-24EF-4410-BB3B-CA3AE6DF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2BA-57F9-4CC4-9977-684345F5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6DD-952E-4997-BEE3-1BC76B9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67C-2C5C-438F-98DC-ACA2DB33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B01-92F9-4F53-819E-1CCEE5E798B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Calibration tools</a:t>
            </a:r>
            <a:br>
              <a:rPr sz="3600"/>
            </a:b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for water Cherenkov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oei NAKAYAMA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Aug 26, 2004 @ T2K collab.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8067600" cy="511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69080" y="60055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Kea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Using fake Cherenkov-light generators is one pos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the same system in 2km and 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 their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ring counting cali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3409920"/>
            <a:ext cx="136692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49120" y="34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47680" y="25448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r c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5960" y="350028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fake e-like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729000">
            <a:off x="5479560" y="420048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6231600">
            <a:off x="5156280" y="4236120"/>
            <a:ext cx="86364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32280" y="42004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32280" y="4195800"/>
            <a:ext cx="72072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737240" y="3984120"/>
            <a:ext cx="936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0520" y="4210200"/>
            <a:ext cx="77472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4158600">
            <a:off x="5372640" y="3012480"/>
            <a:ext cx="86328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277000">
            <a:off x="5695920" y="297612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70600" y="2995560"/>
            <a:ext cx="65700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89680" y="3385800"/>
            <a:ext cx="777600" cy="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78440" y="2800080"/>
            <a:ext cx="6588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6880" y="3517920"/>
            <a:ext cx="93348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2920" y="3440160"/>
            <a:ext cx="1589040" cy="163440"/>
          </a:xfrm>
          <a:custGeom>
            <a:avLst/>
            <a:gdLst/>
            <a:ahLst/>
            <a:rect l="l" t="t" r="r" b="b"/>
            <a:pathLst>
              <a:path w="1001" h="103">
                <a:moveTo>
                  <a:pt x="0" y="103"/>
                </a:moveTo>
                <a:cubicBezTo>
                  <a:pt x="30" y="83"/>
                  <a:pt x="68" y="76"/>
                  <a:pt x="103" y="67"/>
                </a:cubicBezTo>
                <a:cubicBezTo>
                  <a:pt x="129" y="50"/>
                  <a:pt x="158" y="51"/>
                  <a:pt x="188" y="43"/>
                </a:cubicBezTo>
                <a:cubicBezTo>
                  <a:pt x="299" y="47"/>
                  <a:pt x="411" y="59"/>
                  <a:pt x="522" y="49"/>
                </a:cubicBezTo>
                <a:cubicBezTo>
                  <a:pt x="621" y="29"/>
                  <a:pt x="720" y="19"/>
                  <a:pt x="819" y="0"/>
                </a:cubicBezTo>
                <a:cubicBezTo>
                  <a:pt x="857" y="3"/>
                  <a:pt x="895" y="12"/>
                  <a:pt x="934" y="12"/>
                </a:cubicBezTo>
                <a:cubicBezTo>
                  <a:pt x="956" y="12"/>
                  <a:pt x="1001" y="6"/>
                  <a:pt x="1001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92640" y="3517920"/>
            <a:ext cx="1608120" cy="154080"/>
          </a:xfrm>
          <a:custGeom>
            <a:avLst/>
            <a:gdLst/>
            <a:ahLst/>
            <a:rect l="l" t="t" r="r" b="b"/>
            <a:pathLst>
              <a:path w="1013" h="91">
                <a:moveTo>
                  <a:pt x="0" y="91"/>
                </a:moveTo>
                <a:cubicBezTo>
                  <a:pt x="70" y="68"/>
                  <a:pt x="145" y="51"/>
                  <a:pt x="218" y="42"/>
                </a:cubicBezTo>
                <a:cubicBezTo>
                  <a:pt x="327" y="48"/>
                  <a:pt x="426" y="52"/>
                  <a:pt x="534" y="42"/>
                </a:cubicBezTo>
                <a:cubicBezTo>
                  <a:pt x="636" y="8"/>
                  <a:pt x="792" y="15"/>
                  <a:pt x="891" y="12"/>
                </a:cubicBezTo>
                <a:cubicBezTo>
                  <a:pt x="931" y="0"/>
                  <a:pt x="972" y="0"/>
                  <a:pt x="101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73560" y="3747960"/>
            <a:ext cx="1376280" cy="376200"/>
          </a:xfrm>
          <a:custGeom>
            <a:avLst/>
            <a:gdLst/>
            <a:ahLst/>
            <a:rect l="l" t="t" r="r" b="b"/>
            <a:pathLst>
              <a:path w="867" h="237">
                <a:moveTo>
                  <a:pt x="0" y="0"/>
                </a:moveTo>
                <a:cubicBezTo>
                  <a:pt x="24" y="16"/>
                  <a:pt x="32" y="39"/>
                  <a:pt x="61" y="49"/>
                </a:cubicBezTo>
                <a:cubicBezTo>
                  <a:pt x="95" y="75"/>
                  <a:pt x="130" y="90"/>
                  <a:pt x="170" y="103"/>
                </a:cubicBezTo>
                <a:cubicBezTo>
                  <a:pt x="182" y="107"/>
                  <a:pt x="206" y="115"/>
                  <a:pt x="206" y="115"/>
                </a:cubicBezTo>
                <a:cubicBezTo>
                  <a:pt x="279" y="106"/>
                  <a:pt x="352" y="91"/>
                  <a:pt x="424" y="79"/>
                </a:cubicBezTo>
                <a:cubicBezTo>
                  <a:pt x="468" y="84"/>
                  <a:pt x="514" y="88"/>
                  <a:pt x="558" y="97"/>
                </a:cubicBezTo>
                <a:cubicBezTo>
                  <a:pt x="574" y="100"/>
                  <a:pt x="590" y="104"/>
                  <a:pt x="606" y="109"/>
                </a:cubicBezTo>
                <a:cubicBezTo>
                  <a:pt x="618" y="113"/>
                  <a:pt x="643" y="121"/>
                  <a:pt x="643" y="121"/>
                </a:cubicBezTo>
                <a:cubicBezTo>
                  <a:pt x="674" y="144"/>
                  <a:pt x="708" y="167"/>
                  <a:pt x="746" y="176"/>
                </a:cubicBezTo>
                <a:cubicBezTo>
                  <a:pt x="762" y="187"/>
                  <a:pt x="800" y="200"/>
                  <a:pt x="800" y="200"/>
                </a:cubicBezTo>
                <a:cubicBezTo>
                  <a:pt x="814" y="213"/>
                  <a:pt x="832" y="222"/>
                  <a:pt x="849" y="231"/>
                </a:cubicBezTo>
                <a:cubicBezTo>
                  <a:pt x="855" y="234"/>
                  <a:pt x="867" y="237"/>
                  <a:pt x="867" y="2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06600" y="3807000"/>
            <a:ext cx="1398600" cy="403200"/>
          </a:xfrm>
          <a:custGeom>
            <a:avLst/>
            <a:gdLst/>
            <a:ahLst/>
            <a:rect l="l" t="t" r="r" b="b"/>
            <a:pathLst>
              <a:path w="881" h="248">
                <a:moveTo>
                  <a:pt x="0" y="0"/>
                </a:moveTo>
                <a:cubicBezTo>
                  <a:pt x="22" y="14"/>
                  <a:pt x="47" y="28"/>
                  <a:pt x="72" y="36"/>
                </a:cubicBezTo>
                <a:cubicBezTo>
                  <a:pt x="103" y="65"/>
                  <a:pt x="65" y="33"/>
                  <a:pt x="103" y="54"/>
                </a:cubicBezTo>
                <a:cubicBezTo>
                  <a:pt x="129" y="69"/>
                  <a:pt x="148" y="86"/>
                  <a:pt x="175" y="97"/>
                </a:cubicBezTo>
                <a:cubicBezTo>
                  <a:pt x="188" y="109"/>
                  <a:pt x="224" y="121"/>
                  <a:pt x="224" y="121"/>
                </a:cubicBezTo>
                <a:cubicBezTo>
                  <a:pt x="316" y="116"/>
                  <a:pt x="406" y="110"/>
                  <a:pt x="497" y="97"/>
                </a:cubicBezTo>
                <a:cubicBezTo>
                  <a:pt x="555" y="101"/>
                  <a:pt x="600" y="103"/>
                  <a:pt x="654" y="121"/>
                </a:cubicBezTo>
                <a:cubicBezTo>
                  <a:pt x="685" y="150"/>
                  <a:pt x="647" y="118"/>
                  <a:pt x="685" y="139"/>
                </a:cubicBezTo>
                <a:cubicBezTo>
                  <a:pt x="713" y="154"/>
                  <a:pt x="729" y="172"/>
                  <a:pt x="758" y="181"/>
                </a:cubicBezTo>
                <a:cubicBezTo>
                  <a:pt x="781" y="197"/>
                  <a:pt x="804" y="213"/>
                  <a:pt x="830" y="224"/>
                </a:cubicBezTo>
                <a:cubicBezTo>
                  <a:pt x="881" y="246"/>
                  <a:pt x="854" y="223"/>
                  <a:pt x="879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1880" y="2255400"/>
            <a:ext cx="1346400" cy="1081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92640" y="3479760"/>
            <a:ext cx="1656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0400">
            <a:off x="6516360" y="2203200"/>
            <a:ext cx="360360" cy="1295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76640" y="4013280"/>
            <a:ext cx="1667160" cy="125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76640" y="4344840"/>
            <a:ext cx="1344960" cy="91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864600">
            <a:off x="6325920" y="4003200"/>
            <a:ext cx="360360" cy="1297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600" y="4508640"/>
            <a:ext cx="48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relative light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opening angle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two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change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5800" y="5516640"/>
            <a:ext cx="26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eck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isting det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2km WC detector should have much better calibration tools than K2K-1kt currently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ducial volume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have some conceptual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ulation studies are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ing counting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erenkov ring simulator is only one possibility at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rrent K2K-1kt calibr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9080" y="1413000"/>
            <a:ext cx="6029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sibl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ball (T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oint-like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Xe ball (Q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uniform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injector (light scattering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, directions, and wave-lengths (same as 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Cosmic ray pipe (vertex calib.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minant systema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Fiducial volume (vertex f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Ring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ppearanc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BG events to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ignals, 1ring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, strongly depends on the ring cou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Fiducial volume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3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alibration sour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ts ?  cosmic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ev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87280" y="33559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87280" y="551664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223200">
            <a:off x="1788840" y="5076360"/>
            <a:ext cx="1079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4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64000" y="3932280"/>
            <a:ext cx="11318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43700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9000" y="3922560"/>
            <a:ext cx="216000" cy="101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7800" y="2781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2520" y="3789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2880" y="573408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smic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fferent event top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of neutrino events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icult to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14172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407664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8960" y="2579760"/>
            <a:ext cx="311040" cy="26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96760" y="4221000"/>
            <a:ext cx="40788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3440" y="4221000"/>
            <a:ext cx="63216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70640" y="1619280"/>
            <a:ext cx="3394080" cy="2097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141120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 black wall (curtain) + XY-segmented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23760" y="23050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cu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0200" y="52642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XY 2layerd, SciBar type, 3mx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887560"/>
            <a:ext cx="3600360" cy="2160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88756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5000" y="4327560"/>
            <a:ext cx="21600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618000"/>
            <a:ext cx="24476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732000">
            <a:off x="5436720" y="3511440"/>
            <a:ext cx="360360" cy="1008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24480" y="3521160"/>
            <a:ext cx="1184040" cy="272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795840"/>
            <a:ext cx="1015920" cy="712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2671920"/>
            <a:ext cx="576000" cy="587160"/>
          </a:xfrm>
          <a:custGeom>
            <a:avLst/>
            <a:gdLst/>
            <a:ahLst/>
            <a:rect l="l" t="t" r="r" b="b"/>
            <a:pathLst>
              <a:path w="363" h="370">
                <a:moveTo>
                  <a:pt x="0" y="317"/>
                </a:moveTo>
                <a:cubicBezTo>
                  <a:pt x="105" y="343"/>
                  <a:pt x="211" y="370"/>
                  <a:pt x="272" y="317"/>
                </a:cubicBezTo>
                <a:cubicBezTo>
                  <a:pt x="333" y="264"/>
                  <a:pt x="348" y="53"/>
                  <a:pt x="363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040280"/>
            <a:ext cx="1060200" cy="1295280"/>
          </a:xfrm>
          <a:custGeom>
            <a:avLst/>
            <a:gdLst/>
            <a:ahLst/>
            <a:rect l="l" t="t" r="r" b="b"/>
            <a:pathLst>
              <a:path w="771" h="817">
                <a:moveTo>
                  <a:pt x="771" y="0"/>
                </a:moveTo>
                <a:cubicBezTo>
                  <a:pt x="541" y="91"/>
                  <a:pt x="311" y="182"/>
                  <a:pt x="182" y="318"/>
                </a:cubicBezTo>
                <a:cubicBezTo>
                  <a:pt x="53" y="454"/>
                  <a:pt x="30" y="734"/>
                  <a:pt x="0" y="8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0828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67992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75300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824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895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96864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040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111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8464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425592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6920" y="3608280"/>
            <a:ext cx="73080" cy="719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760" y="24922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 WC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de 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280" y="5877000"/>
            <a:ext cx="68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location of the curtain determines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Z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X and 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re measured by the SciBar sheet det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etch a vinyl black sheet using hooks on the detector wall during water supply or during water d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 scintillator bars. (3cm width, 100 horizontal, 100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emble inside the tank after draining the detector water during beam-off period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onstruct a support frame and arrange each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ter-proof each 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ke data in a few Z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, 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al require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5720"/>
            <a:ext cx="878508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event rate of opt1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1/5 x event rate of </a:t>
            </a:r>
            <a:r>
              <a:rPr b="0" lang="ja-JP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 int. in 100t f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0.02 ev / spill (wall position +300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stimated by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glecting inefficiency in trigger condition and event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difference in vertex shift towards Z direction between data and MC should be below 8cm(=800cmx1%) to achieve 1% systematic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stical error on the peak position in the Z distribu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ibration data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 sqrt(N), should be below 8mm. (safety facto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 = 1400 ev  (assuming vertex resolu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3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 = 1400 / 0.02 ~ 70000spills ~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3days (@+30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4.5days (@-100cm), 6days (@-500cm)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total 2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statistical error on the X and Y position for this amount of calibration data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10cm/sqrt(1400) =~ 3mm 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2000+3)**2 / 2000**2 ~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2268360"/>
            <a:ext cx="136692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656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3840" y="2629080"/>
            <a:ext cx="21744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0920" y="255744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13200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306072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984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692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442908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5640" y="435780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3840" y="4932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0920" y="4861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656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384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1120" y="2629080"/>
            <a:ext cx="21780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38560" y="255744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584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292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9712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420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5840" y="4429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2920" y="435780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1120" y="493236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486108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9120" y="2484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6200" y="2413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312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020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1840" y="3708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3637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3120" y="4356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428472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9120" y="5005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6200" y="49338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9080" y="55897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as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87700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PMTs at the up- and down-stream fringes to identify event occurred in the Fid Vol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96388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5680" y="29210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2160" y="162864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16360"/>
            <a:ext cx="1366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70880" y="2886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3800" y="162864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not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2:06:43Z</dcterms:created>
  <dc:creator>中山祥英</dc:creator>
  <dc:description/>
  <dc:language>en-US</dc:language>
  <cp:lastModifiedBy> kajita</cp:lastModifiedBy>
  <dcterms:modified xsi:type="dcterms:W3CDTF">2004-08-25T22:37:28Z</dcterms:modified>
  <cp:revision>6</cp:revision>
  <dc:subject/>
  <dc:title>Options for WC calibrations</dc:title>
</cp:coreProperties>
</file>